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81B2-48B3-4AC5-A85A-568EDDD0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ne 200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Plan Performance Metrics Repo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QSE Project Manager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res Calculated in accordance with the ERCOT Protocols Section 4.10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scores are unadjusted and do not reflect any changes that may be made after discussions with individual QS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RAFT P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lude generation resources under test from having to bid Down 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lude units with physical and/or mechanical issues affecting high or low limits from the Resource LSL as a % of HSL 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lude hours where the QSE updated their Resource Plan after the close of the Adjustment Period and failed that hour for the Adjustment Period Zonal Schedule 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rify that Down Bid &amp; Obligation Measure is done by Congestion Zone when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the following measures to 15-minute interval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LSL as a % of H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ment Period Zonal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3080" y="1066680"/>
            <a:ext cx="8191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LSL as a % of 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ay Ahead Zonal Schedule (2.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AP Zonal Schedule (2.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own Bid &amp;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Total Up AS Scheduled Obli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Score Averages Sept. ’04 to June ‘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146320"/>
            <a:ext cx="65530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rstaples</cp:lastModifiedBy>
  <cp:lastPrinted>2000-09-19T10:42:49Z</cp:lastPrinted>
  <dcterms:modified xsi:type="dcterms:W3CDTF">2005-07-21T18:36:59Z</dcterms:modified>
  <cp:revision>58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6123B85853C04644BEA7919CD67EC24007008E4547FAEC455D46933745A0D608FFE60000002D94C30000B34440AE2CEDA742A9477F5F480CA4C400000269F3B00000</vt:lpwstr>
  </property>
  <property fmtid="{D5CDD505-2E9C-101B-9397-08002B2CF9AE}" pid="3" name="_ReviewCycleID">
    <vt:r8>-1734134100</vt:r8>
  </property>
</Properties>
</file>